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25AE-D6A1-4A66-BF3D-63EF726FB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0641-7229-40C1-A7C6-EDFCC40C2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A232-3435-40E8-BB1E-54E6D2ECE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1272-F59D-4A98-8022-1553EDDA4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19E19-44ED-4C1E-BC75-1A3761DDD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692D3-6596-457D-A573-5B10B8D6C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B97C4-2078-4EED-8117-BE1E4C8BE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0FAF6-CB66-43BE-90CB-966B5B8E8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400F3-816F-4D14-AE5F-0804C4258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B285C-E12D-4DD0-91CC-04DA0FC4B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D8EEA-0C6C-4D5E-859D-118BDAB27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B0C6-CFCF-4A83-B27C-A6AA0FA0B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D843C-36E9-469B-955B-7547DA7AE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2B20F-F204-4FAB-9925-D22D71CF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775B5-F4FF-451F-AECD-F77BE748F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91FCD-21E8-4DED-B2D3-11AA59633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72978-5A64-4657-8F3D-4859283B9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6AF2-AF59-45EE-8242-DCABCD70C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13FF-1421-4AC0-A2B3-77CED7750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E491-4BE0-4DCC-82AF-F2EA89A59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6B6F-8C4E-4D79-B428-B08EC767C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0749-FC23-4996-8428-93F1CD9FB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75E8-FD47-46D7-BD59-30B4F158E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C2F9-BE90-49FE-BC6E-63D7A13B9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898FA-EBAB-4084-ADF6-3AB632235E0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E1682-8E14-4E52-A48D-63044190FA3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How Long, O Lord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rter 13, Lesson 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brews 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ges 67-6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4A46A-C3FF-4851-B4D5-238AADA76684}" type="slidenum">
              <a:t>1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ld Law Regarding Sacrifi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hadow of good things to c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aw is not the very image of those good th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acrifices offered under this law could not make one pref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 this system there was a reminder of sins every ye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was not possible that the blood of bulls and goats could take away s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5BC7-0939-4F9A-8B41-744F9CD4438C}" type="slidenum">
              <a:t>2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ld Law Regarding Sacrifi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had no pleasure in burnt offerings and sacrifices for s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iests stood ministering dai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offered repeatedly the same sacrifices which could never take away s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800E-69C5-4AA1-B4A8-727D2124F8CD}" type="slidenum">
              <a:t>3</a:t>
            </a:fld>
          </a:p>
        </p:txBody>
      </p:sp>
    </p:spTree>
  </p:cSld>
  <p:transition>
    <p:zoom dir="in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esus’ Sacrifi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f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fered once fore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ld take away s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was the sacrifice required by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do God’s will is what Jesus came to do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doing this, Jesus sat down at the right hand of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1777-F9F5-4207-AA80-05A6F031FCB1}" type="slidenum">
              <a:t>4</a:t>
            </a:fld>
          </a:p>
        </p:txBody>
      </p:sp>
    </p:spTree>
  </p:cSld>
  <p:transition>
    <p:blinds dir="horz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" dur="1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" dur="1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" dur="1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" dur="10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" dur="10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esus’ Sacrifice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this one offering He has perfected forever those who are sanct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 the new covenant brought about by Jesus’ sacrifice, the Lord said: “I will put My laws into their hearts, and in their minds I will write them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adds, “their sins and their lawless deeds I will remember no mor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 there is remission of sins, there is no longer an offering for s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88FA-BDEC-4059-96B4-8F42198CD9D2}" type="slidenum">
              <a:t>5</a:t>
            </a:fld>
          </a:p>
        </p:txBody>
      </p:sp>
    </p:spTree>
  </p:cSld>
  <p:transition>
    <p:blinds dir="vert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7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2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7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2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esus Is Our High Pries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bold to enter the Holiest by the blood of Jes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have a new and living way which he consecrated for 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us draw near to God with a true heart in full assurance of fa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ld fast that confession of our hope without wav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698B-565F-4477-B9F7-627B141F5423}" type="slidenum">
              <a:t>6</a:t>
            </a:fld>
          </a:p>
        </p:txBody>
      </p:sp>
    </p:spTree>
  </p:cSld>
  <p:transition>
    <p:zoom dir="out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esus Is Our High Priest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us consider one another in order to stir up love and good wo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’t forsake the assembling of ourselves together as do s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us encourage each other as the day of trial approac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F161-40A8-4C72-BD92-46F17DAEA2BB}" type="slidenum">
              <a:t>7</a:t>
            </a:fld>
          </a:p>
        </p:txBody>
      </p:sp>
    </p:spTree>
  </p:cSld>
  <p:transition>
    <p:checker dir="horz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arning And Exhort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one learns the truth and then willfully sins, there remains no more sacrifice for s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only thing left is the certainty of judg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yone who rejected Moses’ law died without mercy on the testimony of two or three witn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6BD3-AD65-4488-ADFB-0360FB76F3BF}" type="slidenum">
              <a:t>8</a:t>
            </a:fld>
          </a:p>
        </p:txBody>
      </p:sp>
    </p:spTree>
  </p:cSld>
  <p:transition>
    <p:checker dir="vert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1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6" dur="1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1" dur="1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arning And Exhort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much sorer punishment do you suppose one deserves who tramples underfoot the Son of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a fearful thing to fall into the hands of the living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se who keep their boldness in the Lord, have a better and enduring possession in heav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not draw back to perdition, but endure so as to receive the rew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9F46-725C-48B2-8752-7EE388F55BCA}" type="slidenum">
              <a:t>9</a:t>
            </a:fld>
          </a:p>
        </p:txBody>
      </p:sp>
    </p:spTree>
  </p:cSld>
  <p:transition>
    <p:comb dir="horz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4T02:50:38Z</dcterms:created>
  <dc:creator>billy lauderdale</dc:creator>
  <dc:description/>
  <dc:language>en-US</dc:language>
  <cp:lastModifiedBy>Frank D Vines</cp:lastModifiedBy>
  <dcterms:modified xsi:type="dcterms:W3CDTF">2007-08-22T20:57:41Z</dcterms:modified>
  <cp:revision>11</cp:revision>
  <dc:subject/>
  <dc:title>How Long, O Lord</dc:title>
</cp:coreProperties>
</file>